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C8E-AADD-4B0B-8D10-72BDB087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FDC-C679-43E1-A09F-06CA7D83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7D2-48F9-4A59-AFD3-1FA1554C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EAB-66E5-4772-BCE2-18AE81DC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7DC-916C-4AAF-8F19-25BF9DD3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06F-1654-4960-A296-E954AF00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4F4-4B18-4B7C-8FB1-7D1EEE1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840-3362-4004-A824-89219FC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7D1-567E-4EFE-8946-F663A748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258-9DE7-42F0-89EA-CC0C44A4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66C-39DB-45F8-9676-57659E17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5E8-2FF1-4848-BBDC-6499462E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powerpoint slide 4.jpg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50A-C466-41E6-8B8D-2500596DB7D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23E4-7F41-4A88-9D1D-5B80B69FAB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werpoint slide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owerpoint slide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429160" y="285840"/>
            <a:ext cx="2710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Verdana"/>
              </a:rPr>
              <a:t>Sen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57120" y="1214280"/>
            <a:ext cx="8215560" cy="51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ke away task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challenges in building successful partnership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to allow all young people the opportunity to realise their entitlements within the senior phase regardless of where their learning is taking plac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strategies would you require to put in place to help address the cultural barriers between different organisations and sectors to support a sharing of values and ethos to support the educational experience of the young person in your chosen scena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45:17Z</dcterms:created>
  <dc:creator>M Jack</dc:creator>
  <dc:description/>
  <dc:language>en-US</dc:language>
  <cp:lastModifiedBy>EBroadley</cp:lastModifiedBy>
  <dcterms:modified xsi:type="dcterms:W3CDTF">2009-11-11T08:33:51Z</dcterms:modified>
  <cp:revision>152</cp:revision>
  <dc:subject/>
  <dc:title>Slide 1</dc:title>
</cp:coreProperties>
</file>